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7764-B6E0-4E05-A7F9-101FBDDF8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B11F-04FD-4788-A544-661D8F3E9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7303-8C4C-4E94-81EE-8712F95A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727-C258-401E-B3E2-04A188C6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4AF-BFFB-4922-9413-75EF9261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07B-4F63-46B5-92CC-D6146653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E2D-E130-4827-A9A0-31896BBB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28F-C514-45FF-839A-8335AF00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D5E-C8DC-4C22-8D5D-827289D0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DF4-4D13-421E-91C5-D023C84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E32-D430-4E10-A7F5-1EA182D5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650-F904-4213-9C9B-5CC7FE99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729-5A95-4270-8645-C22BEAB1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B8C-0B70-4C7B-AECF-A902BDD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F5F-2DAB-4D7A-BCFD-5F2AAB6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3248-B2A1-4008-BED2-434FC77EB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Routers - Cisco NCS 5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28Z4C-SYS–D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FH-AGG-SY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FH-AGG-SY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FH-CSR-SY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FH-CSR-SY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12Z16G-SYS-A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12Z16G-SYS-D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16Z4G8Q2C-A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16Z4G8Q2C–D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4Z14G2Q-A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4Z14G2Q-D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6Z18G-SYS-A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6Z18G-SYS-D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8Z16G-SYS-A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X-8Z16G-SYS-D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738600" y="888840"/>
            <a:ext cx="1666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12Z20G-SYS-A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12Z20G-SYS-D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24Q8L2DD-SY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24Q8L2DD-SY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24Z8Q2C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24Z8Q2C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40-28Z4C-SYS-A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911760" y="3557520"/>
            <a:ext cx="132048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</cp:lastModifiedBy>
  <dcterms:modified xsi:type="dcterms:W3CDTF">2021-11-19T22:16:47Z</dcterms:modified>
  <cp:revision>5</cp:revision>
  <dc:subject/>
  <dc:title>Slide 1</dc:title>
</cp:coreProperties>
</file>